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AC0F-2357-4C0C-A090-818A6BDE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8E75-F89E-4E04-BD98-4F126EF2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9CAE-4F21-40B9-AEBF-D49457A2A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E5E7-BFB9-4615-B0EC-1453F8BB1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61CC-A865-4181-8C65-E1C9BA6A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95C5-5B4D-49A6-9FC7-2A68F74A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E9A1-E022-45FF-909E-4EAB74E8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B00B-999A-45B5-95A3-0A6190E1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0E23-B9B6-46AF-A327-F7D47586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0A28-7698-4295-95DA-81E631B4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7A49-9E1B-4AC0-947A-10B928C4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4D74-C767-43EC-8E78-05B7A95E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24A1-D91F-4812-8CFE-1D0BE190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CD1E-1D7A-4B57-992C-C4ED96E8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0CF4-194F-4A48-AC5A-8F793315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F5B6-8534-42DC-9593-2045CD3F6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AC90-F0AE-4B3B-BB4C-4D5DA4F4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3539-C68B-47B8-BB4C-31C229A5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BE6D-2732-42F0-A37E-F74FCC15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5265-890F-4E78-87B3-4A3EBC4D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9FBC-D2F6-4D3D-A741-5C19D9BE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18BC-1668-4807-BCFF-0FA1222E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C440-E701-48D7-9CB5-C7709A7B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4960-E238-4340-8CBE-76C5067A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9CCB-23A5-42D5-B800-6109AC5C0FA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180F-8485-4FFB-9FDB-6B83C9D2EAD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48;&#208;&#181;&#209;&#134;&#208;&#184;&#208;&#177;&#208;&#181;&#208;&#187;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77;&#1084;&#1083;&#1077;&#1090;&#1088;&#1103;&#1089;&#1077;&#1085;&#1080;&#1077;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linzik.com/uploads/posts/pics/Otechestvennie_ekologi_protiv_chinush_protivostoyanie_pro.jpg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www.livt.net/Clt/Ani/Cho/Mam/Atd/Cpr/cpr022.jpg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611280" y="2686320"/>
            <a:ext cx="820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i="1" lang="ru-RU" sz="4400" spc="-1" strike="noStrike">
                <a:solidFill>
                  <a:srgbClr val="ffcc00"/>
                </a:solidFill>
                <a:latin typeface="Verdana"/>
              </a:rPr>
              <a:t>“</a:t>
            </a:r>
            <a:r>
              <a:rPr b="1" i="1" lang="ru-RU" sz="4400" spc="-1" strike="noStrike">
                <a:solidFill>
                  <a:srgbClr val="ffcc00"/>
                </a:solidFill>
                <a:latin typeface="Verdana"/>
              </a:rPr>
              <a:t>Здравствуйте, наконец-то я пришел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Verdana"/>
              </a:rPr>
              <a:t>Я-логарифм</a:t>
            </a:r>
            <a:r>
              <a:rPr b="1" i="1" lang="ru-RU" sz="4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Изобретение логарифмов, сократив работу астронома, продлило ему жизнь” 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П.С.Лаплас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6"/>
          <p:cNvSpPr txBox="1"/>
          <p:nvPr/>
        </p:nvSpPr>
        <p:spPr>
          <a:xfrm>
            <a:off x="684360" y="2133720"/>
            <a:ext cx="75610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менение логарифмов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468360" y="-22680"/>
            <a:ext cx="853272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гарифмы широко используется в различных областях наук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99"/>
                </a:solidFill>
                <a:latin typeface="Times New Roman"/>
                <a:ea typeface="Times New Roman"/>
              </a:rPr>
              <a:t>Физика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интенсивность звука (</a:t>
            </a:r>
            <a:r>
              <a:rPr b="0" lang="ru-RU" sz="2000" spc="-1" strike="noStrike" u="sng">
                <a:solidFill>
                  <a:srgbClr val="00ff99"/>
                </a:solidFill>
                <a:uFillTx/>
                <a:latin typeface="Times New Roman"/>
                <a:ea typeface="Times New Roman"/>
                <a:hlinkClick r:id="rId1"/>
              </a:rPr>
              <a:t>децибелы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 оценивается такж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внем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нтенсивности по шкале децибел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исло децибел N=10lg(I/I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где I — интенсивность данного звук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99"/>
                </a:solidFill>
                <a:latin typeface="Times New Roman"/>
                <a:ea typeface="Times New Roman"/>
              </a:rPr>
              <a:t>Астрономия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известна видимая звёздная величина и расстояние до объекта, можно вычислить абсолютную звёздную величину по формуле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2"/>
          <a:stretch/>
        </p:blipFill>
        <p:spPr>
          <a:xfrm>
            <a:off x="1692360" y="3284640"/>
            <a:ext cx="1380960" cy="447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3"/>
          <a:stretch/>
        </p:blipFill>
        <p:spPr>
          <a:xfrm>
            <a:off x="3995640" y="3284640"/>
            <a:ext cx="1876680" cy="4572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285840" y="693360"/>
            <a:ext cx="846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826920" y="32126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395280" y="4340520"/>
            <a:ext cx="849780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99"/>
                </a:solidFill>
                <a:latin typeface="Times New Roman"/>
                <a:ea typeface="Times New Roman"/>
              </a:rPr>
              <a:t>Хим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дородный показатель, "pH ", — это мера активности ионов водорода в растворе, количественно выражающая его кислотность, вычисляется как отрицательный десятичный логарифм концентрации водородных ионов, выраженной в молях на литр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box{pH} = -lg left [ mbox{H}+ ight]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250920" y="459000"/>
            <a:ext cx="8893080" cy="4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99"/>
                </a:solidFill>
                <a:latin typeface="Verdana"/>
              </a:rPr>
              <a:t>В музыке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основе устройства музыкальной гаммы лежат определенные закономерност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ля построения гаммы гораздо удобнее пользоваться, оказывается, логарифмами соответствующих частот: log 2w0, log 2w1... log 2wm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99"/>
                </a:solidFill>
                <a:latin typeface="Verdana"/>
              </a:rPr>
              <a:t>В сейсмологии: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и вычислении магнитуд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Магнитуда землетрясени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— величина, характеризующая энергию,  выделившуюся при </a:t>
            </a:r>
            <a:r>
              <a:rPr b="0" lang="ru-RU" sz="2400" spc="-1" strike="noStrike" u="sng">
                <a:solidFill>
                  <a:srgbClr val="00ff99"/>
                </a:solidFill>
                <a:uFillTx/>
                <a:latin typeface="Verdana"/>
                <a:hlinkClick r:id="rId1"/>
              </a:rPr>
              <a:t>землетрясении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в виде сейсмических волн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3348000" y="5084640"/>
            <a:ext cx="230364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4716360" y="1485360"/>
            <a:ext cx="4152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ираль – это плоская кривая линия, многократно обходяща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ну из точек на плоскости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ываемую полюсом спирал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гарифмическая спираль является траекторией точки, которая движется вдоль равномерно вращающейся прямой, удаляясь от полюса со скоростью, пропорциональной пройденному расстоянию. Точнее, в логарифмической спирали углу поворота пропорционален логарифм этого расстояния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Picture 6" descr="new_pa16"/>
          <p:cNvPicPr/>
          <p:nvPr/>
        </p:nvPicPr>
        <p:blipFill>
          <a:blip r:embed="rId1"/>
          <a:stretch/>
        </p:blipFill>
        <p:spPr>
          <a:xfrm>
            <a:off x="468360" y="1700280"/>
            <a:ext cx="4033800" cy="37447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9"/>
          <p:cNvSpPr/>
          <p:nvPr/>
        </p:nvSpPr>
        <p:spPr>
          <a:xfrm>
            <a:off x="826920" y="488880"/>
            <a:ext cx="76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Логарифмическая спирал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4716360" y="404640"/>
            <a:ext cx="4211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собенности логарифмической спирали поражали не только математиков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е свойства удивляют и биологов, которые считают именно эту спираль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воего рода стандартом биологических объектов самой разной природы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пример, раковины морских животных могут расти лишь в одном направлении. Чтобы не слишком вытягиваться в длину, им приходится скручиваться, причем каждый следующий виток подобен предыдущему. А такой рост может совершаться  лишь по логарифмической спирали или ее аналогиям. Поэтому раковины многих моллюсков, улиток, закручены по логарифмической спирал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Picture 5" descr="new_pa19"/>
          <p:cNvPicPr/>
          <p:nvPr/>
        </p:nvPicPr>
        <p:blipFill>
          <a:blip r:embed="rId1"/>
          <a:stretch/>
        </p:blipFill>
        <p:spPr>
          <a:xfrm>
            <a:off x="250920" y="214200"/>
            <a:ext cx="2209680" cy="1738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new_pa20"/>
          <p:cNvPicPr/>
          <p:nvPr/>
        </p:nvPicPr>
        <p:blipFill>
          <a:blip r:embed="rId2"/>
          <a:stretch/>
        </p:blipFill>
        <p:spPr>
          <a:xfrm>
            <a:off x="33480" y="2143080"/>
            <a:ext cx="4467240" cy="4572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new_pa21"/>
          <p:cNvPicPr/>
          <p:nvPr/>
        </p:nvPicPr>
        <p:blipFill>
          <a:blip r:embed="rId3"/>
          <a:stretch/>
        </p:blipFill>
        <p:spPr>
          <a:xfrm>
            <a:off x="2627280" y="214200"/>
            <a:ext cx="180972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1042920" y="3636360"/>
            <a:ext cx="74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ога таких рогатых млекопитающих, как архары – горные козлы, закручены по логарифмической спирал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Picture 8" descr="new_pa24"/>
          <p:cNvPicPr/>
          <p:nvPr/>
        </p:nvPicPr>
        <p:blipFill>
          <a:blip r:embed="rId1"/>
          <a:stretch/>
        </p:blipFill>
        <p:spPr>
          <a:xfrm>
            <a:off x="539640" y="4471920"/>
            <a:ext cx="2808360" cy="21211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9"/>
          <p:cNvSpPr/>
          <p:nvPr/>
        </p:nvSpPr>
        <p:spPr>
          <a:xfrm>
            <a:off x="3538080" y="5591160"/>
            <a:ext cx="53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подсолнухе семечки расположены по дуга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лизким к логарифмическим спиралям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10" descr="Картинка 12 из 606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333360"/>
            <a:ext cx="4174920" cy="3095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Картинка 90 из 606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88000" y="333360"/>
            <a:ext cx="39542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9"/>
          <p:cNvSpPr/>
          <p:nvPr/>
        </p:nvSpPr>
        <p:spPr>
          <a:xfrm>
            <a:off x="395280" y="59490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логарифмической спирали закручены многие галактик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Picture 9" descr="http://astro.uni-altai.ru/pub/pic/2771.jpg"/>
          <p:cNvPicPr/>
          <p:nvPr/>
        </p:nvPicPr>
        <p:blipFill>
          <a:blip r:embed="rId1"/>
          <a:stretch/>
        </p:blipFill>
        <p:spPr>
          <a:xfrm>
            <a:off x="539640" y="620640"/>
            <a:ext cx="7993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сегодня я узнал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было интересно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было трудно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я выполнял задания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я понял, что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теперь я могу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я почувствовал, что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я приобрел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я научился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у меня получилось 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я смог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я попробую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меня удивило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урок дал мне для жизни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1042920" y="191628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Verdana"/>
              </a:rPr>
              <a:t>Спасибо за урок!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362800" cy="583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b9efee"/>
                </a:solidFill>
                <a:latin typeface="Garamond"/>
              </a:rPr>
              <a:t>1</a:t>
            </a:r>
            <a:r>
              <a:rPr b="1" i="1" lang="ru-RU" sz="2000" spc="-1" strike="noStrike">
                <a:solidFill>
                  <a:srgbClr val="b9efee"/>
                </a:solidFill>
                <a:latin typeface="Garamond"/>
              </a:rPr>
              <a:t>. </a:t>
            </a:r>
            <a:r>
              <a:rPr b="1" i="1" lang="ru-RU" sz="2400" spc="-1" strike="noStrike" u="sng">
                <a:solidFill>
                  <a:srgbClr val="b9efee"/>
                </a:solidFill>
                <a:uFillTx/>
                <a:latin typeface="Garamond"/>
              </a:rPr>
              <a:t>Логарифмом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 положительного числа </a:t>
            </a:r>
            <a:r>
              <a:rPr b="1" i="1" lang="en-US" sz="2400" spc="-1" strike="noStrike">
                <a:solidFill>
                  <a:srgbClr val="b9efee"/>
                </a:solidFill>
                <a:latin typeface="Garamond"/>
              </a:rPr>
              <a:t>b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 ( </a:t>
            </a:r>
            <a:r>
              <a:rPr b="1" i="1" lang="en-US" sz="2400" spc="-1" strike="noStrike">
                <a:solidFill>
                  <a:srgbClr val="b9efee"/>
                </a:solidFill>
                <a:latin typeface="Garamond"/>
              </a:rPr>
              <a:t>b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&gt;0) по положительному  основанию </a:t>
            </a:r>
            <a:r>
              <a:rPr b="1" i="1" lang="en-US" sz="2400" spc="-1" strike="noStrike">
                <a:solidFill>
                  <a:srgbClr val="b9efee"/>
                </a:solidFill>
                <a:latin typeface="Garamond"/>
              </a:rPr>
              <a:t>a 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(</a:t>
            </a:r>
            <a:r>
              <a:rPr b="1" i="1" lang="en-US" sz="2400" spc="-1" strike="noStrike">
                <a:solidFill>
                  <a:srgbClr val="b9efee"/>
                </a:solidFill>
                <a:latin typeface="Garamond"/>
              </a:rPr>
              <a:t>a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&gt;0)  называют показатель степени, в которую надо возвести число </a:t>
            </a:r>
            <a:r>
              <a:rPr b="1" i="1" lang="en-US" sz="2400" spc="-1" strike="noStrike">
                <a:solidFill>
                  <a:srgbClr val="b9efee"/>
                </a:solidFill>
                <a:latin typeface="Garamond"/>
              </a:rPr>
              <a:t>a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, чтобы получить число </a:t>
            </a:r>
            <a:r>
              <a:rPr b="1" i="1" lang="en-US" sz="2400" spc="-1" strike="noStrike">
                <a:solidFill>
                  <a:srgbClr val="b9efee"/>
                </a:solidFill>
                <a:latin typeface="Garamond"/>
              </a:rPr>
              <a:t>b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.</a:t>
            </a: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2. </a:t>
            </a:r>
            <a:r>
              <a:rPr b="1" i="1" lang="ru-RU" sz="2400" spc="-1" strike="noStrike" u="sng">
                <a:solidFill>
                  <a:srgbClr val="b9efee"/>
                </a:solidFill>
                <a:uFillTx/>
                <a:latin typeface="Garamond"/>
              </a:rPr>
              <a:t>Логарифмом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 положительного числа </a:t>
            </a:r>
            <a:r>
              <a:rPr b="1" i="1" lang="en-US" sz="2400" spc="-1" strike="noStrike">
                <a:solidFill>
                  <a:srgbClr val="b9efee"/>
                </a:solidFill>
                <a:latin typeface="Garamond"/>
              </a:rPr>
              <a:t>b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( </a:t>
            </a:r>
            <a:r>
              <a:rPr b="1" i="1" lang="en-US" sz="2400" spc="-1" strike="noStrike">
                <a:solidFill>
                  <a:srgbClr val="b9efee"/>
                </a:solidFill>
                <a:latin typeface="Garamond"/>
              </a:rPr>
              <a:t>b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&gt;0) по положительному и отличному от  единицы основанию </a:t>
            </a:r>
            <a:r>
              <a:rPr b="1" i="1" lang="en-US" sz="2400" spc="-1" strike="noStrike">
                <a:solidFill>
                  <a:srgbClr val="b9efee"/>
                </a:solidFill>
                <a:latin typeface="Garamond"/>
              </a:rPr>
              <a:t>a 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(</a:t>
            </a:r>
            <a:r>
              <a:rPr b="1" i="1" lang="en-US" sz="2400" spc="-1" strike="noStrike">
                <a:solidFill>
                  <a:srgbClr val="b9efee"/>
                </a:solidFill>
                <a:latin typeface="Garamond"/>
              </a:rPr>
              <a:t>a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&gt;0, </a:t>
            </a:r>
            <a:r>
              <a:rPr b="1" i="1" lang="en-US" sz="2400" spc="-1" strike="noStrike">
                <a:solidFill>
                  <a:srgbClr val="b9efee"/>
                </a:solidFill>
                <a:latin typeface="Garamond"/>
              </a:rPr>
              <a:t>a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 ≠ 1)  называют показатель степени, в которую надо возвести число </a:t>
            </a:r>
            <a:r>
              <a:rPr b="1" i="1" lang="en-US" sz="2400" spc="-1" strike="noStrike">
                <a:solidFill>
                  <a:srgbClr val="b9efee"/>
                </a:solidFill>
                <a:latin typeface="Garamond"/>
              </a:rPr>
              <a:t>a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, чтобы получить число </a:t>
            </a:r>
            <a:r>
              <a:rPr b="1" i="1" lang="en-US" sz="2400" spc="-1" strike="noStrike">
                <a:solidFill>
                  <a:srgbClr val="b9efee"/>
                </a:solidFill>
                <a:latin typeface="Garamond"/>
              </a:rPr>
              <a:t>b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.</a:t>
            </a: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3.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2400" spc="-1" strike="noStrike" u="sng">
                <a:solidFill>
                  <a:srgbClr val="b9efee"/>
                </a:solidFill>
                <a:uFillTx/>
                <a:latin typeface="Garamond"/>
              </a:rPr>
              <a:t>Логарифмом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 числа </a:t>
            </a:r>
            <a:r>
              <a:rPr b="1" i="1" lang="en-US" sz="2400" spc="-1" strike="noStrike">
                <a:solidFill>
                  <a:srgbClr val="b9efee"/>
                </a:solidFill>
                <a:latin typeface="Garamond"/>
              </a:rPr>
              <a:t>b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 по положительному и отличному от  единицы основанию </a:t>
            </a:r>
            <a:r>
              <a:rPr b="1" i="1" lang="en-US" sz="2400" spc="-1" strike="noStrike">
                <a:solidFill>
                  <a:srgbClr val="b9efee"/>
                </a:solidFill>
                <a:latin typeface="Garamond"/>
              </a:rPr>
              <a:t>a 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(</a:t>
            </a:r>
            <a:r>
              <a:rPr b="1" i="1" lang="en-US" sz="2400" spc="-1" strike="noStrike">
                <a:solidFill>
                  <a:srgbClr val="b9efee"/>
                </a:solidFill>
                <a:latin typeface="Garamond"/>
              </a:rPr>
              <a:t>a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&gt;0, </a:t>
            </a:r>
            <a:r>
              <a:rPr b="1" i="1" lang="en-US" sz="2400" spc="-1" strike="noStrike">
                <a:solidFill>
                  <a:srgbClr val="b9efee"/>
                </a:solidFill>
                <a:latin typeface="Garamond"/>
              </a:rPr>
              <a:t>a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 ≠ 1) называют показатель степени, в которую надо возвести число </a:t>
            </a:r>
            <a:r>
              <a:rPr b="1" i="1" lang="en-US" sz="2400" spc="-1" strike="noStrike">
                <a:solidFill>
                  <a:srgbClr val="b9efee"/>
                </a:solidFill>
                <a:latin typeface="Garamond"/>
              </a:rPr>
              <a:t>a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, чтобы получить число </a:t>
            </a:r>
            <a:r>
              <a:rPr b="1" i="1" lang="en-US" sz="2400" spc="-1" strike="noStrike">
                <a:solidFill>
                  <a:srgbClr val="b9efee"/>
                </a:solidFill>
                <a:latin typeface="Garamond"/>
              </a:rPr>
              <a:t>b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.</a:t>
            </a: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Определение логарифм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91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6530a"/>
                </a:solidFill>
                <a:uFillTx/>
                <a:latin typeface="Garamond"/>
              </a:rPr>
              <a:t>Логарифмом</a:t>
            </a:r>
            <a:r>
              <a:rPr b="1" i="1" lang="ru-RU" sz="3200" spc="-1" strike="noStrike">
                <a:solidFill>
                  <a:srgbClr val="f6530a"/>
                </a:solidFill>
                <a:latin typeface="Garamond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положительного числа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(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&gt;0) по положительному и отличному от  единицы основанию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&gt;0,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≠ 1) , называют показатель степени, в которую надо возвести число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, чтобы получить число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Логарифм числа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 по основанию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обозначаетс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8"/>
              <p:cNvSpPr txBox="1"/>
              <p:nvPr/>
            </p:nvSpPr>
            <p:spPr>
              <a:xfrm>
                <a:off x="3348000" y="5661000"/>
                <a:ext cx="1152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0"/>
              <p:cNvSpPr txBox="1"/>
              <p:nvPr/>
            </p:nvSpPr>
            <p:spPr>
              <a:xfrm>
                <a:off x="3348000" y="5661000"/>
                <a:ext cx="1152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Основное логарифмическое тождество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5"/>
              <p:cNvSpPr txBox="1"/>
              <p:nvPr/>
            </p:nvSpPr>
            <p:spPr>
              <a:xfrm>
                <a:off x="1042920" y="2492280"/>
                <a:ext cx="7561440" cy="271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b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new_pa9"/>
          <p:cNvPicPr/>
          <p:nvPr/>
        </p:nvPicPr>
        <p:blipFill>
          <a:blip r:embed="rId1"/>
          <a:stretch/>
        </p:blipFill>
        <p:spPr>
          <a:xfrm>
            <a:off x="250920" y="260280"/>
            <a:ext cx="3827520" cy="39592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>
            <a:off x="3786120" y="74160"/>
            <a:ext cx="5033880" cy="67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гарифмы возникли в 16 веке в связи с необходимостью проведения большого объема приближенных вычислений в ходе решения практических задач, и в первую очередь задач астрономии, (в частности, при определении положения судов по звездам и по Солнцу)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гарифмы были введены шотландским математиком Джоном Непером (1550-1617) и математиком Иостом  Бюрги (1552-1632)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точки зрения вычислительной практики, изобретение логарифмов по возможности можно смело поставить рядом с другими, более древним великим изобретением индусов – нашей десятичной системы нумерации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7" name="Object 4"/>
              <p:cNvSpPr txBox="1"/>
              <p:nvPr/>
            </p:nvSpPr>
            <p:spPr>
              <a:xfrm>
                <a:off x="1692360" y="2276640"/>
                <a:ext cx="5626080" cy="22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?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5"/>
          <p:cNvSpPr/>
          <p:nvPr/>
        </p:nvSpPr>
        <p:spPr>
          <a:xfrm>
            <a:off x="2124000" y="2492280"/>
            <a:ext cx="5267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ffcc00"/>
                </a:solidFill>
                <a:latin typeface="Verdana"/>
              </a:rPr>
              <a:t>log</a:t>
            </a:r>
            <a:r>
              <a:rPr b="0" i="1" lang="en-US" sz="8800" spc="-1" strike="noStrike" baseline="-25000">
                <a:solidFill>
                  <a:srgbClr val="ffcc00"/>
                </a:solidFill>
                <a:latin typeface="Verdana"/>
              </a:rPr>
              <a:t>a </a:t>
            </a:r>
            <a:r>
              <a:rPr b="0" i="1" lang="ru-RU" sz="8800" spc="-1" strike="noStrike">
                <a:solidFill>
                  <a:srgbClr val="ffcc00"/>
                </a:solidFill>
                <a:latin typeface="Verdana"/>
              </a:rPr>
              <a:t>1</a:t>
            </a:r>
            <a:r>
              <a:rPr b="0" i="1" lang="en-US" sz="8800" spc="-1" strike="noStrike">
                <a:solidFill>
                  <a:srgbClr val="ffcc00"/>
                </a:solidFill>
                <a:latin typeface="Verdana"/>
              </a:rPr>
              <a:t> =</a:t>
            </a:r>
            <a:r>
              <a:rPr b="0" i="1" lang="ru-RU" sz="8800" spc="-1" strike="noStrike">
                <a:solidFill>
                  <a:srgbClr val="ffcc00"/>
                </a:solidFill>
                <a:latin typeface="Verdana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976320" y="2004840"/>
                <a:ext cx="6775560" cy="210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?</m:t>
                        </m:r>
                      </m:sub>
                    </m:sSub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Найдите значение выражения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8"/>
              <p:cNvSpPr txBox="1"/>
              <p:nvPr/>
            </p:nvSpPr>
            <p:spPr>
              <a:xfrm>
                <a:off x="2419200" y="25779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15"/>
              <p:cNvSpPr txBox="1"/>
              <p:nvPr/>
            </p:nvSpPr>
            <p:spPr>
              <a:xfrm>
                <a:off x="6093000" y="1600200"/>
                <a:ext cx="1149120" cy="21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21"/>
              <p:cNvSpPr txBox="1"/>
              <p:nvPr/>
            </p:nvSpPr>
            <p:spPr>
              <a:xfrm>
                <a:off x="395280" y="2209680"/>
                <a:ext cx="325764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24"/>
              <p:cNvSpPr txBox="1"/>
              <p:nvPr/>
            </p:nvSpPr>
            <p:spPr>
              <a:xfrm>
                <a:off x="539640" y="3357720"/>
                <a:ext cx="2719440" cy="12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27"/>
              <p:cNvSpPr txBox="1"/>
              <p:nvPr/>
            </p:nvSpPr>
            <p:spPr>
              <a:xfrm>
                <a:off x="5580000" y="1844640"/>
                <a:ext cx="168912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35"/>
              <p:cNvSpPr txBox="1"/>
              <p:nvPr/>
            </p:nvSpPr>
            <p:spPr>
              <a:xfrm>
                <a:off x="5580000" y="3357720"/>
                <a:ext cx="165744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д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37"/>
              <p:cNvSpPr txBox="1"/>
              <p:nvPr/>
            </p:nvSpPr>
            <p:spPr>
              <a:xfrm>
                <a:off x="536400" y="4819680"/>
                <a:ext cx="303228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7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41"/>
              <p:cNvSpPr txBox="1"/>
              <p:nvPr/>
            </p:nvSpPr>
            <p:spPr>
              <a:xfrm>
                <a:off x="5553000" y="4748040"/>
                <a:ext cx="243036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0,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6:35:29Z</dcterms:created>
  <dc:creator>ТИХОНОВА</dc:creator>
  <dc:description/>
  <dc:language>en-US</dc:language>
  <cp:lastModifiedBy>Виталия</cp:lastModifiedBy>
  <dcterms:modified xsi:type="dcterms:W3CDTF">2012-01-16T08:39:21Z</dcterms:modified>
  <cp:revision>30</cp:revision>
  <dc:subject/>
  <dc:title>Слайд 1</dc:title>
</cp:coreProperties>
</file>